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15B-6756-400C-88BB-8AD676EB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D38-28D8-4710-989C-4CAD108D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E27-0649-4C36-B6AA-5DC5679B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995-EF83-4361-BFCB-83596194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B56-4499-47D9-A3F7-FEDD4F6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F2B-5271-4C17-98ED-6CD1DD4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F0A-3898-4824-907E-1F8A943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1B7-70A0-4DD6-95CF-AAC9F0E8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09D-1378-4479-84C8-7F57CD3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69E-038A-40A1-AE55-68C5956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0BF-C7B5-4684-AD87-F64F9AA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800-7AE0-413D-80B7-90EFC1BD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DF5-2FA6-46D9-B52C-DF35AF59C48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374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rebuchet MS"/>
              </a:rPr>
              <a:t>El AD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4" descr="http://www.maph49.galeon.com/adn/deoxchem.gif"/>
          <p:cNvPicPr/>
          <p:nvPr/>
        </p:nvPicPr>
        <p:blipFill>
          <a:blip r:embed="rId1"/>
          <a:stretch/>
        </p:blipFill>
        <p:spPr>
          <a:xfrm>
            <a:off x="468360" y="981000"/>
            <a:ext cx="2398680" cy="180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n 1" descr="estructura de los nucleótidos"/>
          <p:cNvPicPr/>
          <p:nvPr/>
        </p:nvPicPr>
        <p:blipFill>
          <a:blip r:embed="rId2"/>
          <a:srcRect l="7824" t="57611" r="17500" b="0"/>
          <a:stretch/>
        </p:blipFill>
        <p:spPr>
          <a:xfrm>
            <a:off x="0" y="5273640"/>
            <a:ext cx="446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Imagen 13" descr=""/>
          <p:cNvPicPr/>
          <p:nvPr/>
        </p:nvPicPr>
        <p:blipFill>
          <a:blip r:embed="rId3"/>
          <a:stretch/>
        </p:blipFill>
        <p:spPr>
          <a:xfrm>
            <a:off x="3503520" y="1300320"/>
            <a:ext cx="517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onografias.com"/>
          <p:cNvPicPr/>
          <p:nvPr/>
        </p:nvPicPr>
        <p:blipFill>
          <a:blip r:embed="rId1"/>
          <a:stretch/>
        </p:blipFill>
        <p:spPr>
          <a:xfrm>
            <a:off x="1258920" y="836640"/>
            <a:ext cx="5979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946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n 1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622760" cy="3961080"/>
          </a:xfrm>
          <a:prstGeom prst="rect">
            <a:avLst/>
          </a:prstGeom>
          <a:ln w="0">
            <a:noFill/>
          </a:ln>
        </p:spPr>
      </p:pic>
      <p:sp>
        <p:nvSpPr>
          <p:cNvPr id="46" name="Cuadro de texto 2"/>
          <p:cNvSpPr/>
          <p:nvPr/>
        </p:nvSpPr>
        <p:spPr>
          <a:xfrm>
            <a:off x="5796000" y="1916280"/>
            <a:ext cx="24066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LOS CUATRO NUCLEÓTIDOS DEL ADN, CONSTANDO CADA UNO DE UNA BASE NITROGENADA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DIF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14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204300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6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339264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Imagen 18" descr=""/>
          <p:cNvPicPr/>
          <p:nvPr/>
        </p:nvPicPr>
        <p:blipFill>
          <a:blip r:embed="rId3"/>
          <a:srcRect l="0" t="0" r="0" b="9849"/>
          <a:stretch/>
        </p:blipFill>
        <p:spPr>
          <a:xfrm>
            <a:off x="7097760" y="961920"/>
            <a:ext cx="2050920" cy="42148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14" descr=""/>
          <p:cNvPicPr/>
          <p:nvPr/>
        </p:nvPicPr>
        <p:blipFill>
          <a:blip r:embed="rId4"/>
          <a:stretch/>
        </p:blipFill>
        <p:spPr>
          <a:xfrm>
            <a:off x="5292720" y="730080"/>
            <a:ext cx="2070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2349360"/>
          <a:ext cx="6912000" cy="1465560"/>
        </p:xfrm>
        <a:graphic>
          <a:graphicData uri="http://schemas.openxmlformats.org/drawingml/2006/table">
            <a:tbl>
              <a:tblPr/>
              <a:tblGrid>
                <a:gridCol w="363600"/>
                <a:gridCol w="363600"/>
                <a:gridCol w="363600"/>
                <a:gridCol w="363600"/>
                <a:gridCol w="363600"/>
                <a:gridCol w="365040"/>
                <a:gridCol w="363600"/>
                <a:gridCol w="363240"/>
                <a:gridCol w="363600"/>
                <a:gridCol w="363600"/>
                <a:gridCol w="365040"/>
                <a:gridCol w="363600"/>
                <a:gridCol w="363600"/>
                <a:gridCol w="363600"/>
                <a:gridCol w="363600"/>
                <a:gridCol w="363600"/>
                <a:gridCol w="365040"/>
                <a:gridCol w="363600"/>
                <a:gridCol w="363240"/>
              </a:tblGrid>
              <a:tr h="366840">
                <a:tc gridSpan="19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 ejemplo, si la secuencia de una hebra 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 gridSpan="19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onces la secuencia de la hebra complementaria tiene que ser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Mutaciones cromosóm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1767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1483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575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328760" y="1233360"/>
            <a:ext cx="64850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3262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22:50:24Z</dcterms:created>
  <dc:creator>Usuario</dc:creator>
  <dc:description/>
  <dc:language>en-US</dc:language>
  <cp:lastModifiedBy>Luffi</cp:lastModifiedBy>
  <dcterms:modified xsi:type="dcterms:W3CDTF">2015-01-20T18:17:06Z</dcterms:modified>
  <cp:revision>7</cp:revision>
  <dc:subject/>
  <dc:title>El ADN</dc:title>
</cp:coreProperties>
</file>